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55680" y="-223920"/>
            <a:ext cx="12291840" cy="157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5680" y="6325560"/>
            <a:ext cx="12291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54240" y="1231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5568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54240" y="6325560"/>
            <a:ext cx="599832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118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668080" y="1231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556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5118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668080" y="6325560"/>
            <a:ext cx="3957840" cy="46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680" y="3179520"/>
            <a:ext cx="12291840" cy="339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82400"/>
            <a:ext cx="1170144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56480" y="-1663560"/>
            <a:ext cx="5891040" cy="155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355680" y="318744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355680" y="-1663560"/>
            <a:ext cx="5891040" cy="155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55680" y="-1663560"/>
            <a:ext cx="5891040" cy="155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5680" y="-698400"/>
            <a:ext cx="5891040" cy="558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55680" y="4876560"/>
            <a:ext cx="5891040" cy="76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5680" y="-698400"/>
            <a:ext cx="5891040" cy="558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355680" y="4876560"/>
            <a:ext cx="5891040" cy="76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1270080" y="-813240"/>
            <a:ext cx="10463040" cy="1137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4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4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4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4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4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4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-22392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680" y="1231560"/>
            <a:ext cx="12291840" cy="975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304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270080" y="1157400"/>
            <a:ext cx="10463040" cy="8937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70080" y="2971440"/>
            <a:ext cx="10463040" cy="38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1270080" y="5029200"/>
            <a:ext cx="10463040" cy="50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1270080" y="1638360"/>
            <a:ext cx="104630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70080" y="6886080"/>
            <a:ext cx="1046304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70080" y="6886080"/>
            <a:ext cx="1046304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5840" cy="527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5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5840" cy="527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5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304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304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1269720" y="-9720"/>
            <a:ext cx="5040360" cy="1127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355680" y="-1314360"/>
            <a:ext cx="12291840" cy="1236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304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270080" y="2768760"/>
            <a:ext cx="10463040" cy="834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304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0" y="-2203920"/>
            <a:ext cx="3960720" cy="156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70080" y="142560"/>
            <a:ext cx="1046304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1269720" y="-9720"/>
            <a:ext cx="5040360" cy="1127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14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880" y="2282400"/>
            <a:ext cx="1170144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marL="250200"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1" marL="250200" indent="-25020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2" marL="250200" indent="-25020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3" marL="250200" indent="-25020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4" marL="250200" indent="-25020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5" marL="250200" indent="-25020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6" marL="250200" indent="-250200">
              <a:lnSpc>
                <a:spcPct val="120000"/>
              </a:lnSpc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680" y="1888920"/>
            <a:ext cx="12291840" cy="339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5680" y="5270040"/>
            <a:ext cx="12291840" cy="589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680" y="6360840"/>
            <a:ext cx="12291840" cy="339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5680" y="6360840"/>
            <a:ext cx="12291840" cy="339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5680" y="469584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55680" y="8076960"/>
            <a:ext cx="12291840" cy="589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5680" y="4695840"/>
            <a:ext cx="12291840" cy="339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55680" y="8076960"/>
            <a:ext cx="12291840" cy="589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iardinodimarco.it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55320" y="756720"/>
            <a:ext cx="12293640" cy="823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it-IT" sz="5400" spc="-1" strike="noStrike">
                <a:solidFill>
                  <a:srgbClr val="414141"/>
                </a:solidFill>
                <a:latin typeface="Verdana"/>
              </a:rPr>
              <a:t>Associazione Marco Mascagna</a:t>
            </a:r>
            <a:br>
              <a:rPr sz="5400"/>
            </a:br>
            <a:br>
              <a:rPr sz="8000"/>
            </a:br>
            <a:r>
              <a:rPr b="1" lang="it-IT" sz="8000" spc="-1" strike="noStrike">
                <a:solidFill>
                  <a:srgbClr val="414141"/>
                </a:solidFill>
                <a:latin typeface="Verdana"/>
              </a:rPr>
              <a:t>Dalla distruzione delle foreste</a:t>
            </a:r>
            <a:br>
              <a:rPr sz="8000"/>
            </a:br>
            <a:r>
              <a:rPr b="1" lang="it-IT" sz="8000" spc="-1" strike="noStrike">
                <a:solidFill>
                  <a:srgbClr val="414141"/>
                </a:solidFill>
                <a:latin typeface="Verdana"/>
              </a:rPr>
              <a:t>alla distruzione del paesaggio agrario della Campania</a:t>
            </a:r>
            <a:endParaRPr b="0" lang="en-US" sz="8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en-US" sz="5400" spc="-1" strike="noStrike">
                <a:solidFill>
                  <a:srgbClr val="15047e"/>
                </a:solidFill>
                <a:latin typeface="Verdana Bold"/>
                <a:ea typeface="Verdana Bold"/>
              </a:rPr>
              <a:t>Un problema italiano: la distruzione della campagna e delle aree verdi</a:t>
            </a:r>
            <a:endParaRPr b="0" lang="en-US" sz="5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355320" y="2716200"/>
            <a:ext cx="12293640" cy="63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3120" indent="-303120">
              <a:lnSpc>
                <a:spcPct val="90000"/>
              </a:lnSpc>
              <a:spcBef>
                <a:spcPts val="2614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 Bold"/>
              </a:rPr>
              <a:t>fa scomparire ambienti naturali con la loro varietà di fauna e flora, perché il suolo è la “base” dell’ecosistema</a:t>
            </a:r>
            <a:endParaRPr b="0" lang="en-US" sz="40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90000"/>
              </a:lnSpc>
              <a:spcBef>
                <a:spcPts val="2614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 Bold"/>
              </a:rPr>
              <a:t>altera il ciclo delle acque, per la conseguente impermeabilizzazione del suolo, determinando frane, smottamenti, voragini, alluvioni</a:t>
            </a:r>
            <a:endParaRPr b="0" lang="en-US" sz="40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90000"/>
              </a:lnSpc>
              <a:spcBef>
                <a:spcPts val="2614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 Bold"/>
              </a:rPr>
              <a:t>determina la perdita del paesaggio tipico della nostra regione (la Campania Felix) fatto di frutteti, vigneti, macchia mediterranea, orti, con gravi danni sul turismo</a:t>
            </a:r>
            <a:endParaRPr b="0" lang="en-US" sz="4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129603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129603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355320" y="1636200"/>
            <a:ext cx="12293640" cy="73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Smettere di costruire case e palazzi, centri commerciali, multisale, superstrade ecc.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450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fare una legge come quella toscana che vincola le aree agricole e dice che le case di campagna possono essere acquistate solo da agricoltori o da aziende agricole e, se il terreno di pertinenza della casa non viene coltivato, la proprietà viene requisita dalla Regione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450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pretendere che tutti i comuni si diano un piano regolatore conforme alle direttive regionali e provinciali e difendere i piani regolatori che difendono le aree verdi (come quello di Napoli)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450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incentivare l´agricoltura e i prodotti tipici campani tramite finanziamenti, mercatini degli autoproduttori, uso nelle mense di prodotti campani ecc.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title"/>
          </p:nvPr>
        </p:nvSpPr>
        <p:spPr>
          <a:xfrm>
            <a:off x="355320" y="254160"/>
            <a:ext cx="12293640" cy="138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1" lang="de-DE" sz="7200" spc="-1" strike="noStrike">
                <a:solidFill>
                  <a:srgbClr val="15047e"/>
                </a:solidFill>
                <a:latin typeface="Gill Sans Light"/>
              </a:rPr>
              <a:t>Che fare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1" lang="de-DE" sz="7200" spc="-1" strike="noStrike">
                <a:solidFill>
                  <a:srgbClr val="15047e"/>
                </a:solidFill>
                <a:latin typeface="Gill Sans Light"/>
              </a:rPr>
              <a:t>Grazie per l´attenzione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0" algn="ctr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858680"/>
                <a:tab algn="l" pos="11582280"/>
              </a:tabLst>
            </a:pPr>
            <a:r>
              <a:rPr b="1" lang="de-DE" sz="4400" spc="-1" strike="noStrike">
                <a:solidFill>
                  <a:srgbClr val="15047e"/>
                </a:solidFill>
                <a:latin typeface="Comic Sans MS"/>
              </a:rPr>
              <a:t>Associazione Marco Mascagna onlus</a:t>
            </a: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0" algn="ctr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858680"/>
                <a:tab algn="l" pos="11582280"/>
              </a:tabLst>
            </a:pPr>
            <a:r>
              <a:rPr b="0" lang="de-DE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giardinodimarco.it</a:t>
            </a: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0" algn="ctr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858680"/>
                <a:tab algn="l" pos="11582280"/>
              </a:tabLst>
            </a:pPr>
            <a:r>
              <a:rPr b="1" lang="de-DE" sz="4400" spc="-1" strike="noStrike">
                <a:solidFill>
                  <a:srgbClr val="15047e"/>
                </a:solidFill>
                <a:latin typeface="Comic Sans MS"/>
              </a:rPr>
              <a:t>mail@giardinodimarco.it</a:t>
            </a: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/>
          </p:nvPr>
        </p:nvSpPr>
        <p:spPr>
          <a:xfrm>
            <a:off x="355320" y="1636200"/>
            <a:ext cx="12293640" cy="73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3120" indent="-303120">
              <a:lnSpc>
                <a:spcPct val="11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DIVERSIFICAZION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ヒラギノ角ゴ ProN W6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temperate, boreali e tropicali, di conifere e di latifoglie. Foreste pluviali, foreste secche, foreste palustri e di mangrovie</a:t>
            </a:r>
            <a:endParaRPr b="0" lang="en-US" sz="28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10000"/>
              </a:lnSpc>
              <a:spcBef>
                <a:spcPts val="2849"/>
              </a:spcBef>
              <a:buClr>
                <a:srgbClr val="414141"/>
              </a:buClr>
              <a:buSzPct val="81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FUNZION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regolano il clim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controllano la caduta della piogg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l'assorbimento nel suolo e l'evaporazione dell'acqua e conservano grandi quantità di carbonio, aiutandoci a combattere l'effetto serra</a:t>
            </a:r>
            <a:endParaRPr b="0" lang="en-US" sz="28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10000"/>
              </a:lnSpc>
              <a:spcBef>
                <a:spcPts val="2849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POPOL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ヒラギノ角ゴ ProN W6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oltre 87 culture umane sono state distrutt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solo in Brasile</a:t>
            </a:r>
            <a:endParaRPr b="0" lang="en-US" sz="28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10000"/>
              </a:lnSpc>
              <a:spcBef>
                <a:spcPts val="2849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SPECIE ANIMALI E VEGETAL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ヒラギノ角ゴ ProN W6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Le foreste tropicali coprono solamente il 7% della superficie del pianeta, ma ospitano circa la metà delle specie animali e vegetali della terra</a:t>
            </a:r>
            <a:endParaRPr b="0" lang="en-US" sz="2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title"/>
          </p:nvPr>
        </p:nvSpPr>
        <p:spPr>
          <a:xfrm>
            <a:off x="355320" y="254160"/>
            <a:ext cx="12293640" cy="138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it-IT" sz="7200" spc="-1" strike="noStrike">
                <a:solidFill>
                  <a:srgbClr val="15047e"/>
                </a:solidFill>
                <a:latin typeface="Verdana Bold"/>
                <a:ea typeface="Verdana Bold"/>
              </a:rPr>
              <a:t>le foreste millenarie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it-IT" sz="6800" spc="-1" strike="noStrike">
                <a:solidFill>
                  <a:srgbClr val="15047e"/>
                </a:solidFill>
                <a:latin typeface="Verdana Bold"/>
                <a:ea typeface="Verdana Bold"/>
              </a:rPr>
              <a:t>Una</a:t>
            </a:r>
            <a:r>
              <a:rPr b="0" lang="it-IT" sz="6000" spc="-1" strike="noStrike">
                <a:solidFill>
                  <a:srgbClr val="15047e"/>
                </a:solidFill>
                <a:latin typeface="Verdana Bold"/>
                <a:ea typeface="Verdana Bold"/>
              </a:rPr>
              <a:t> metà delle foreste del pianeta è già stata distrutta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55320" y="2715840"/>
            <a:ext cx="122936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un quinto delle foreste rimane intatto su vaste aree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600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settantasei paesi non hanno più grandi foreste incontaminate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600"/>
              </a:spcBef>
              <a:buClr>
                <a:srgbClr val="414141"/>
              </a:buClr>
              <a:buSzPct val="81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decine di specie si sono estinte e molte altre sono minacciate:</a:t>
            </a:r>
            <a:r>
              <a:rPr b="1" lang="it-IT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lvl="2" marL="1065240" indent="-304920">
              <a:lnSpc>
                <a:spcPct val="100000"/>
              </a:lnSpc>
              <a:spcBef>
                <a:spcPts val="3600"/>
              </a:spcBef>
              <a:buClr>
                <a:srgbClr val="414141"/>
              </a:buClr>
              <a:buSzPct val="81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Un quarto dei mammiferi è scomparso                                                           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lvl="2" marL="1065240" indent="-304920">
              <a:lnSpc>
                <a:spcPct val="100000"/>
              </a:lnSpc>
              <a:spcBef>
                <a:spcPts val="3600"/>
              </a:spcBef>
              <a:buClr>
                <a:srgbClr val="414141"/>
              </a:buClr>
              <a:buSzPct val="81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il 12% degli animali ed il 14% delle piante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600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Ogni due secondi, un'area dalle dimensioni di un campo di calcio viene disboscata ….per farne prodotti come la carta igienica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8" name=""/>
          <p:cNvSpPr/>
          <p:nvPr/>
        </p:nvSpPr>
        <p:spPr>
          <a:xfrm>
            <a:off x="2153160" y="5468760"/>
            <a:ext cx="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55320" y="254160"/>
            <a:ext cx="12293640" cy="138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en-US" sz="7200" spc="-1" strike="noStrike">
                <a:solidFill>
                  <a:srgbClr val="15047e"/>
                </a:solidFill>
                <a:latin typeface="Verdana Bold"/>
                <a:ea typeface="Verdana Bold"/>
              </a:rPr>
              <a:t>Percorsi di distruzione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55320" y="1636200"/>
            <a:ext cx="12293640" cy="8116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er portare via un tronco vengono distrutti gli alberi circostanti: per abbattere otto alberi in ogni ettaro di foresta distruggono il 26% della vegetazione residua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674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 strade costruite dalle compagnie per trasportare i tronchi rendono accessibili aree sempre più profonde di foresta, che viene in breve tempo aggredita dai bracconieri a caccia di grandi mammiferi rari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674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La distruzione delle foreste minaccia la sopravvivenza di molte specie: in Africa sono minacciati di estinzione il gorilla, l'elefante di foresta, alcune specie di gazzelle e di zebre ecc.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674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Il ‘taglio a raso’ distrugge tutto l’ecosistema, impedendogli di rigenerarsi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674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Il ‘taglio selettivo’ di alcune specie distrugge aree di foresta molto vaste, mettendo in pericolo molti tipi alberi.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55320" y="151920"/>
            <a:ext cx="12293640" cy="148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 Bold"/>
                <a:ea typeface="Verdana Bold"/>
              </a:rPr>
              <a:t>    </a:t>
            </a:r>
            <a:r>
              <a:rPr b="0" lang="en-US" sz="7200" spc="-1" strike="noStrike">
                <a:solidFill>
                  <a:srgbClr val="15047e"/>
                </a:solidFill>
                <a:latin typeface="Verdana Bold"/>
                <a:ea typeface="Verdana Bold"/>
              </a:rPr>
              <a:t>Che c’entra l’Italia?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55320" y="1636200"/>
            <a:ext cx="12293640" cy="73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L’Italia è uno dei maggiori importatori di legno africano: è il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econdo Paese importatore mondiale di legno tropicale africano e il primo di legno del Camerun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Greenpeace ha dimostrato che alcune compagnie italiane sono coinvolte nel taglio illegale in Afric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Anche il nostro paese sta devastando le foreste: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ogni mese vengono scaricate nei nostri porti grandi quantità di legname proveniente da operazioni illegali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Il governo ha il dovere di fermare l'importazione di legno illegale o distruttivo. Ma non fa nulla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/>
          </p:nvPr>
        </p:nvSpPr>
        <p:spPr>
          <a:xfrm>
            <a:off x="355320" y="253800"/>
            <a:ext cx="12293640" cy="923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858680"/>
                <a:tab algn="l" pos="1158228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C`è una possibilità di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salvare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queste foreste</a:t>
            </a: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858680"/>
                <a:tab algn="l" pos="1158228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Ma dobbiamo agire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  <a:ea typeface="Arial Bold"/>
              </a:rPr>
              <a:t> 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ORA</a:t>
            </a: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858680"/>
                <a:tab algn="l" pos="1158228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Non c’e’ tempo da perdere!</a:t>
            </a: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/>
          </p:nvPr>
        </p:nvSpPr>
        <p:spPr>
          <a:xfrm>
            <a:off x="254160" y="1636200"/>
            <a:ext cx="12293280" cy="68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 Bold"/>
                <a:ea typeface="Verdana Bold"/>
              </a:rPr>
              <a:t>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non acquistare prodotti di origine illegale o distruttiva, 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scegliere prodotti riciclati 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scegliere prodotti certificati FSC (Forest Stewardship Council)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ridurre i consumi di carta e cartoni, riciclare la carta e i cartoni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title"/>
          </p:nvPr>
        </p:nvSpPr>
        <p:spPr>
          <a:xfrm>
            <a:off x="355320" y="254160"/>
            <a:ext cx="12293640" cy="138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1" lang="en-US" sz="6000" spc="-1" strike="noStrike">
                <a:solidFill>
                  <a:srgbClr val="15047e"/>
                </a:solidFill>
                <a:latin typeface="Verdana Bold"/>
                <a:ea typeface="Verdana Bold"/>
              </a:rPr>
              <a:t>Le soluzioni ci sono: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55320" y="254160"/>
            <a:ext cx="12293640" cy="138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Verdana Bold"/>
                <a:ea typeface="Verdana Bold"/>
              </a:rPr>
              <a:t> </a:t>
            </a:r>
            <a:r>
              <a:rPr b="1" lang="it-IT" sz="5400" spc="-1" strike="noStrike">
                <a:solidFill>
                  <a:srgbClr val="15047e"/>
                </a:solidFill>
                <a:latin typeface="Verdana Bold"/>
                <a:ea typeface="Verdana Bold"/>
              </a:rPr>
              <a:t>Cosa dovrebbero fare le autorità</a:t>
            </a:r>
            <a:r>
              <a:rPr b="0" lang="it-IT" sz="4800" spc="-1" strike="noStrike">
                <a:solidFill>
                  <a:srgbClr val="000000"/>
                </a:solidFill>
                <a:latin typeface="Verdana Bold"/>
                <a:ea typeface="Verdana Bold"/>
              </a:rPr>
              <a:t> 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54160" y="1636200"/>
            <a:ext cx="12293280" cy="71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3120" indent="-303120">
              <a:lnSpc>
                <a:spcPct val="9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Il governo italiano</a:t>
            </a:r>
            <a:r>
              <a:rPr b="1" lang="it-IT" sz="3400" spc="-1" strike="noStrike">
                <a:solidFill>
                  <a:srgbClr val="333399"/>
                </a:solidFill>
                <a:latin typeface="Times New Roman"/>
              </a:rPr>
              <a:t> deve applicare le convenzioni già sottoscritte dal nostro paese per fermare il legno illegale.</a:t>
            </a:r>
            <a:endParaRPr b="0" lang="en-US" sz="34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90000"/>
              </a:lnSpc>
              <a:spcBef>
                <a:spcPts val="3713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L’Unione Europea</a:t>
            </a:r>
            <a:r>
              <a:rPr b="1" lang="it-IT" sz="3400" spc="-1" strike="noStrike">
                <a:solidFill>
                  <a:srgbClr val="333399"/>
                </a:solidFill>
                <a:latin typeface="Times New Roman"/>
              </a:rPr>
              <a:t> deve varare subito una legge che impedisca l’acquisto di legno di provenienza illegale.</a:t>
            </a:r>
            <a:endParaRPr b="0" lang="en-US" sz="34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90000"/>
              </a:lnSpc>
              <a:spcBef>
                <a:spcPts val="3713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Le amministrazioni pubbliche</a:t>
            </a:r>
            <a:r>
              <a:rPr b="1" lang="it-IT" sz="3400" spc="-1" strike="noStrike">
                <a:solidFill>
                  <a:srgbClr val="333399"/>
                </a:solidFill>
                <a:latin typeface="Times New Roman"/>
              </a:rPr>
              <a:t> devono impegnarsi ad acquistare solo prodotti forestali pienamente sostenibili: carta riciclata e legno certificato secondo gli standard del Forest Stewardship Council.</a:t>
            </a:r>
            <a:endParaRPr b="0" lang="en-US" sz="3400" spc="-1" strike="noStrike">
              <a:solidFill>
                <a:srgbClr val="414141"/>
              </a:solidFill>
              <a:latin typeface="Gill Sans Light"/>
            </a:endParaRPr>
          </a:p>
          <a:p>
            <a:pPr marL="303120" indent="-303120">
              <a:lnSpc>
                <a:spcPct val="90000"/>
              </a:lnSpc>
              <a:spcBef>
                <a:spcPts val="3713"/>
              </a:spcBef>
              <a:buClr>
                <a:srgbClr val="414141"/>
              </a:buClr>
              <a:buSzPct val="81000"/>
              <a:buFont typeface="Verdana Bol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400" spc="-1" strike="noStrike">
                <a:solidFill>
                  <a:srgbClr val="333399"/>
                </a:solidFill>
                <a:latin typeface="Times New Roman"/>
                <a:ea typeface="Verdana Bold"/>
              </a:rPr>
              <a:t>Le imprese</a:t>
            </a:r>
            <a:r>
              <a:rPr b="1" lang="it-IT" sz="3400" spc="-1" strike="noStrike">
                <a:solidFill>
                  <a:srgbClr val="333399"/>
                </a:solidFill>
                <a:latin typeface="Times New Roman"/>
              </a:rPr>
              <a:t> devono cessare tutti gli acquisti da compagnie che praticano il taglio illegale e impegnarsi a spostare i propri acquisto verso prodotti certificato secondo gli standard del Forest Stewardship Council.</a:t>
            </a:r>
            <a:endParaRPr b="0" lang="en-US" sz="3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it-IT" sz="5400" spc="-1" strike="noStrike">
                <a:solidFill>
                  <a:srgbClr val="15047e"/>
                </a:solidFill>
                <a:latin typeface="Verdana Bold"/>
                <a:ea typeface="Verdana Bold"/>
              </a:rPr>
              <a:t>Un problema italiano: la distruzione della campagna e delle aree verdi</a:t>
            </a:r>
            <a:endParaRPr b="0" lang="en-US" sz="5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55320" y="2543040"/>
            <a:ext cx="12293640" cy="666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299880" indent="-299880">
              <a:lnSpc>
                <a:spcPct val="11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Times New Roman Bold"/>
              </a:rPr>
              <a:t>tra il 1960 e il 2000 nella Provincia di Napoli, la superficie urbana è aumentata del 350% distruggendo migliaia di ettari di una campagna tra le più fertili del mondo, giardini, castagneti, piccole aree boscose e a macchia mediterranea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299880" indent="-299880">
              <a:lnSpc>
                <a:spcPct val="110000"/>
              </a:lnSpc>
              <a:spcBef>
                <a:spcPts val="2614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Times New Roman Bold"/>
              </a:rPr>
              <a:t>La cementificazione distrugge e deturpa un territorio di rara bellezza e interesse (paesaggio, storia, arte)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marL="299880" indent="-299880">
              <a:lnSpc>
                <a:spcPct val="110000"/>
              </a:lnSpc>
              <a:spcBef>
                <a:spcPts val="2614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Times New Roman Bold"/>
              </a:rPr>
              <a:t>determina traffico automobilistico e conseguente inquinamento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er il continuo di case in tutto il territorio, che diventa così estremamente difficile servire con mezzi pubblici e con l’instaurarsi del circolo vizioso: case e centri commerciali → aumento del traffico → nuovi assi viari → nuove case e centri commerciali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ara russo krauss</cp:lastModifiedBy>
  <dcterms:modified xsi:type="dcterms:W3CDTF">2009-02-22T18:18:44Z</dcterms:modified>
  <cp:revision>2</cp:revision>
  <dc:subject/>
  <dc:title>le foreste</dc:title>
</cp:coreProperties>
</file>